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EBF42-19FB-4CC2-88B2-A10D2442C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4AD25-FA83-483F-BE89-C032F2D08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2751E-952B-4A06-AFEF-400FB62B5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1F866-1ADC-426A-8A73-D59D0C4C1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FAB90-5818-40DA-9A95-6D6A9C6B2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C6A1F-67A6-4154-8881-F56F1B4EE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1F855-BCBD-4E21-9A50-F13746C57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9B604-EC77-443F-91C6-807E0A5C3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224F9-A219-4B53-98E4-8A60C8C8D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AF476-9BB1-4E14-982D-856D4F0D2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1BAD6-A88B-4916-A0E9-798B28C11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6723B-F4B8-45C5-870F-81FC301AD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8FE1A-321C-41A4-BDBD-6B58C1719A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0" y="394920"/>
            <a:ext cx="68580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Wie heißen diese Worten auf Englisch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49360" y="3276720"/>
            <a:ext cx="525780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roß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lein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ittelgroß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ang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urz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ck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chlank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il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chüchtern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chnell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angsam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49360" y="1187280"/>
            <a:ext cx="5473440" cy="194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as Auge (die Augen)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e Nas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as Ohr (die Ohren)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r Zahn (die Zähne)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r Stoßzahn (die  Stoßzähne)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r Horn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r Pelz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989000" y="8675640"/>
            <a:ext cx="2995920" cy="1857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8899560"/>
            <a:ext cx="685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reated by H. Butterfiel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1413000" y="8028000"/>
            <a:ext cx="4114800" cy="34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30T20:11:24Z</dcterms:created>
  <dc:creator>Helena</dc:creator>
  <dc:description/>
  <dc:language>en-US</dc:language>
  <cp:lastModifiedBy>staff</cp:lastModifiedBy>
  <dcterms:modified xsi:type="dcterms:W3CDTF">2009-04-01T08:52:08Z</dcterms:modified>
  <cp:revision>5</cp:revision>
  <dc:subject/>
  <dc:title>Slide 1</dc:title>
</cp:coreProperties>
</file>